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1FD-7C41-48ED-A240-A8E7F668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643-583A-4822-9038-2F13E433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D7E-0B2E-44EA-8840-CFECDE50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250-5026-4B3D-9E93-F3EFEC5E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EDB-8F39-46F1-8C52-27E452F5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3F0-2443-47A2-9058-9A8557D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DF1-1D9A-4EBA-99A6-C0CAC8C2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AA4-9572-4C29-831F-7B7AC520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713-90A9-4235-8997-C2934A05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784-0D64-4845-A8F7-01614C90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BE0-72DD-430F-91CC-42E8DE6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CEA-D9F3-432D-BF56-0149E280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C570-EC25-43C9-8120-3CBDBC612D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ержавне нерухоме майно, що знаходиться на баланс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75248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600200"/>
            <a:ext cx="43434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43000"/>
            <a:ext cx="44960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1 Комплекс по виробництву цегли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1 Майнові комплекси промислового виробниц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м. Київ, вул. Промислова, 4-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4382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60" y="1905120"/>
            <a:ext cx="13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20.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Адміністративн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бутові будівлі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ромислових підприємст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438280"/>
            <a:ext cx="167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7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верх Адмін будинку (ін.№ 1586 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42900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1 (ін.№ 808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429000"/>
            <a:ext cx="14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9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2 (ін.№ 110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76520"/>
            <a:ext cx="388620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4197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421.1 Огородженн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3429000" y="2057400"/>
            <a:ext cx="1371600" cy="7617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05740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743200" y="2362320"/>
            <a:ext cx="40464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1676520"/>
            <a:ext cx="1371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0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110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99.9 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14300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2 База відпочинку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103 Об'єкти відпочинку та туризму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п. Гурзуф, ул. Гайдара,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160020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1905120"/>
            <a:ext cx="131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3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1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10552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562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8672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29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нюшня на 82 голів (ін. №903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1.1 Будівля для тваринницт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5486400"/>
            <a:ext cx="228600" cy="1066680"/>
          </a:xfrm>
          <a:prstGeom prst="flowChartCollat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648320"/>
            <a:ext cx="4267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3 Конюшня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2 Об'єкти сільськогосподарського призначення, лісівництва та рибного господарс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с. Новий Шлях, Козелецький р-н, Чернігівська об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80880"/>
            <a:ext cx="83818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дентифікаційний код ЄДРПОУ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балансаутримувача: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1650279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не найменування балансоутримувача: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ЕРЖАВНЕ ПІДПРИЄМСТВО "СВІТЯЗЬ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ісцезнаходження балансоутримувач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.Київ, вул.Промислова, 4-а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819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0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083211,5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743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8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1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5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оздоровч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3581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2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1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2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Земельна ділянка (інв.№0124) – </a:t>
            </a: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400 000,0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00.1 Землі сільськогосподарськ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5791320"/>
            <a:ext cx="1600200" cy="83808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63244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9240" y="6324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4000" y="601992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Не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57150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3434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14640" y="434340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60958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р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50532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Ідальня 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30.4 Ідальні, кафе, закусочні та т.і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4197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6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Ворота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№75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3505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6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Сарай (ін. № 8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4.6 Господарські будівл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419720"/>
            <a:ext cx="3505320" cy="228600"/>
          </a:xfrm>
          <a:prstGeom prst="wedgeRoundRectCallout">
            <a:avLst>
              <a:gd name="adj1" fmla="val -54754"/>
              <a:gd name="adj2" fmla="val -1444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495680"/>
            <a:ext cx="1600200" cy="838440"/>
          </a:xfrm>
          <a:prstGeom prst="wedgeRoundRectCallout">
            <a:avLst>
              <a:gd name="adj1" fmla="val -61606"/>
              <a:gd name="adj2" fmla="val -22689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2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Дорога (ін.№ 5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112.2 Позаміські, об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їзні та окружні дорог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133720" y="5714280"/>
            <a:ext cx="1371600" cy="762120"/>
          </a:xfrm>
          <a:prstGeom prst="wedgeRoundRectCallout">
            <a:avLst>
              <a:gd name="adj1" fmla="val -63310"/>
              <a:gd name="adj2" fmla="val 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Артскважи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01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222.4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і свердловини, колодязі, бювети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1905120"/>
            <a:ext cx="1316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 УХЗЮАЗ024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2 (ін.№ 81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2:40:10Z</dcterms:created>
  <dc:creator>Well</dc:creator>
  <dc:description/>
  <dc:language>en-US</dc:language>
  <cp:lastModifiedBy>star777</cp:lastModifiedBy>
  <dcterms:modified xsi:type="dcterms:W3CDTF">2006-05-12T11:34:54Z</dcterms:modified>
  <cp:revision>23</cp:revision>
  <dc:subject/>
  <dc:title>Презентация PowerPoint</dc:title>
</cp:coreProperties>
</file>